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2BB-B1A5-475A-8EAB-C0F18057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C21-2161-4D34-A061-498D097F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B94-53C3-4B02-A09F-ED139272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EE1-EDC0-4915-9062-85657C1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547-CE43-4B60-857B-59E9E235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B73-A4DB-43C2-B04C-D214E742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AA79-035E-48E1-8250-E547B22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4F63-911A-4D5C-B0C6-0202AC91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D7CC-3AB9-4AAA-9801-6A97AAFC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4092-9D67-474A-9516-CA22821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27A3-9484-4BBD-A13C-646061FD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4EB-2FC0-4984-920B-DCEB7EE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0A4-B3F1-4EFD-BEA0-286A490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7B35-C141-461F-B88F-CD94FB94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68F3-EA23-4780-83D1-AC00B532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2224-53A6-4CA6-9974-FA55B00A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3EAF-0D20-44B8-80A2-C3017E11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D6A-0F77-4B6C-93C7-B130789C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130-8F41-4FFC-AAF9-DC1A66F5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94E-882E-4CBD-8130-4C2E9087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43D-601B-4259-98FF-58C1C7D1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522-9810-4A8C-BFF6-4F6C3BB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A09-9580-4C29-A814-D4415F0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8A2-7E56-4820-8C20-E308F0A6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2897-FC04-4A36-A6C0-A76BC7316E01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8E13-6A6B-4100-8262-CF41B6E9F5A1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Ilícitos tributarios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Ley 11.683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ÉGIMEN SANCIONATORI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9.1.1 – Cumplimiento parcial deberes formale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Deberes formales art. 38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Deberes formales art. 3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Deberes formales art. 39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Subsiste la infracción si se obstaculiza labor del Fisc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80000"/>
              </a:lnSpc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40 – CLAUSUR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Multa $ 300 a $ 30.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Clausura de 3 a 10 d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entregar/no emitir f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llevar anotación de ope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ransportar sin rem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alta de inscripción AF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conservación comprobantes de comp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poseer/no mantener en condiciones instrumentos de med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40.1 – Clausur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Multa $ 300 a $ 30.0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ocupar personal no registr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Clausu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gravedad del hecho y reincide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0920" indent="-520920">
              <a:spcBef>
                <a:spcPts val="10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Tahoma"/>
              </a:rPr>
              <a:t>Art. 37 – Intereses resarcitorio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20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Falta total o parcial del pago de gravámen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20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Interés sobre interé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20920" indent="-520920">
              <a:spcBef>
                <a:spcPts val="10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Tahoma"/>
              </a:rPr>
              <a:t>Art. 52 – Intereses punitorio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20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Se devengan a partir inicio acciones judiciales para el cobro del impuest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1720" indent="-5317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t. 45 – Omisión de impuest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* Sanción del 50% al 100% del gravamen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falta presentación DDJJ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inexactitud de las presentada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no actuar como agente de retenció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siempre que no corresponda art. 46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t. 45 – Omisión de impuest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* Agravamiento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sanción del 100% hasta 400% del ajuste de impuesto o retención no practicada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. Transacciones celebradas entre entes del país con personas físicas o jurídicas del exterior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1720" indent="-53172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. 46 – Defraud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* Multa de 2 a 10 vece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- Declaración engaños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- Ocultación malicios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31720" indent="-53172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. 46.1 – Igual san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tilización indebida de quebra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1720" indent="-53172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t. 47 – Indicios declaración engañosa / ocultación malicio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Contradicción entre registros, documentación y DDJJ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Datos inexactos en documentac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Claro apartamiento con nor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Carencia de documentación y contabilida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Utilización figuras jurídicas inadecuad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Art. 48 – Agentes de retención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* Multa 2 a 10 vece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- Retención mantenida en poder del agente después del vencimiento para su pag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Art. 49 – Reducción y eximición de san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Rectificación de DDJJ previa a vista determinación de ofici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No reincidente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- Reducción a 1/3 del mínimo legal sanciones art. 45/46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7120" indent="-53712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rt. 38 – Multa automátic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3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No presentación en término DDJ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Sanción monto fijo $ 200 / $ 4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Reducción al 50% - cumplimiento    dentro de los 15 dí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Reducción Instr. 06/2007 AF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Art. 49 – Reducción y eximición de san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Aceptación de ajuste una vez corrida la vista pero antes del vencimiento de los primeros 15 día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Excepto reincidenci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- Reducción 2/3 mínimo legal art. 45/46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Art. 49 – Reducción y eximición de sanci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Determinación de oficio consentid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No mediando reincidenci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- Reducción al mínimo legal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Art. 49 – Reducción y eximición de sanci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Gravámenes adeudados actualizados menores a $ 1.000.- pago espontáneo, eximición de sanción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23736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6320" indent="-52632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8.1 – Multa automátic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* No presentación en término DDJJ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- DDJJ informativas – Reg. Inf. 3º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. Sanción $ 5.000 / $ 10.000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. Reducción Instr. 06/2007 AFIP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6320" indent="-52632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8.1 – Multa automátic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* No presentación en término DDJJ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- DDJJ informativas – Impo/Expo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Partes Independientes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. Sanción $ 1.500 / $ 9.000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1720" indent="-53172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8.1 – Multa automátic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* No presentación en término DDJJ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- DDJJ informativas – Precios  de transferencia.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. Sanción $ 10.000 / $ 20.000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80000"/>
              </a:lnSpc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9 – Incumplimiento deberes formale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Sanción genérica $ 150 / $ 2.500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Sanción agravada $ 150 / $ 45.000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Normas domicilio fisc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Resistencia pasiva inspe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Omisión datos DDJJ precios transf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Falta conservación comproban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9.1 – Incumplimiento deberes formale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Agravamien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Sanción $ 500 / $ 45.0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Incumplimientos presentación DDJJ art. 38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Se recuerda: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Tahoma"/>
              </a:rPr>
              <a:t>Art. 38.1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 – Multa automática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No presentación en término DDJJ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DJJ informativas – Reg. Inf. 3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DJJ informativas – Impo/Exp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es Independien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DJJ informativas – Precios  de transfere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9.1 – Incumplimiento deberes formale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Acumulación con sanciones del art. 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Reiteración – Nuevas san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Incumplimientos para sujetos con ingresos superiores $ 10.000.000 anuales agravamiento ante 3º intimación 2 a 10 veces sanción art. 39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0:29:06Z</dcterms:created>
  <dc:creator>WinuE</dc:creator>
  <dc:description/>
  <dc:language>en-US</dc:language>
  <cp:lastModifiedBy>asanclemente</cp:lastModifiedBy>
  <dcterms:modified xsi:type="dcterms:W3CDTF">2012-08-30T19:15:19Z</dcterms:modified>
  <cp:revision>31</cp:revision>
  <dc:subject/>
  <dc:title>Diapositiva 1</dc:title>
</cp:coreProperties>
</file>